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61B5-7D44-45EC-A652-CFD61EA00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9360" y="386892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29E4-68AB-477F-B702-EEB32C3C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49360" y="386892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86892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1E58-BF8D-4004-97DD-D98A08553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8440" y="160020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160" y="160020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49360" y="386892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8440" y="386892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160" y="386892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0E38-3745-4EA3-9C7B-A18120C0D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E12EA-4ECF-4829-BA98-67850432A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360" y="1600200"/>
            <a:ext cx="8042040" cy="43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278D-A31E-4CFB-8645-A66A5477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8042040" cy="43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E940-631D-4EAE-84E6-00F2A822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3924360" cy="43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924360" cy="43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B191-7D6C-4119-896B-E9633559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D796-0E9B-4D46-9964-8457FF01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36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61AC2-B420-4D4D-AFE7-ECFC21AC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924360" cy="43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360" y="386892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0FB2-F6B9-47D9-84ED-22CAE1D4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49360" y="1600200"/>
            <a:ext cx="8042040" cy="43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7036-9BB6-450E-B7DB-1133A573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3924360" cy="43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386892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978C-6B98-4E68-B360-5A39F7FC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360" y="386892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7BC0-B19F-4174-B10F-A9A84B9B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360" y="386892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2079-F287-44B8-ABA5-E3729AD3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360" y="386892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386892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ADFF7-E740-4000-AADA-3E4C38FB7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440" y="160020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160" y="160020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360" y="386892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440" y="386892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160" y="386892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9CE3-7FAF-4454-BBBE-ECAFA7C37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8042040" cy="43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8F75-D045-43F1-9E1F-FC8601BD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3924360" cy="43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924360" cy="43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5489-53AE-4506-8BE2-173D08D9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0446-E1C5-4EBB-92CD-14D1F785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4936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4D21-B2A6-4C8F-963A-131B6052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924360" cy="43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49360" y="386892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C807-C0AB-49D9-B4EE-A7270A85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3924360" cy="43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86892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B82F-8C33-4CB2-A13E-31454BC5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49360" y="386892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F50A-120B-4F7C-BF98-ABF0ED09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328040" y="1295280"/>
            <a:ext cx="6487200" cy="3152520"/>
          </a:xfrm>
          <a:prstGeom prst="rect">
            <a:avLst/>
          </a:prstGeom>
          <a:noFill/>
          <a:ln w="3175">
            <a:solidFill>
              <a:srgbClr val="ffffff"/>
            </a:solidFill>
            <a:round/>
          </a:ln>
          <a:effectLst>
            <a:outerShdw algn="ctr" blurRad="63360" rotWithShape="0" sx="100500" sy="10050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23000" y="1523880"/>
            <a:ext cx="6497640" cy="172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CA" sz="4600" spc="-1" strike="noStrike">
                <a:solidFill>
                  <a:schemeClr val="accent1"/>
                </a:solidFill>
                <a:latin typeface="News Gothic MT"/>
              </a:rPr>
              <a:t>Click to edit Master title style</a:t>
            </a:r>
            <a:endParaRPr b="0" lang="en-US" sz="4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5629680" y="6275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264600" y="6275520"/>
            <a:ext cx="4840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898040" y="6275520"/>
            <a:ext cx="990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04A96FB-8FF3-4E32-A7B8-6459D909003B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CA" sz="4600" spc="-1" strike="noStrike">
                <a:solidFill>
                  <a:schemeClr val="accent1"/>
                </a:solidFill>
                <a:latin typeface="News Gothic MT"/>
              </a:rPr>
              <a:t>Click to edit Master title style</a:t>
            </a:r>
            <a:endParaRPr b="0" lang="en-US" sz="4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360" y="1600200"/>
            <a:ext cx="8042040" cy="43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0" lang="en-CA" sz="2400" spc="-1" strike="noStrike">
                <a:solidFill>
                  <a:srgbClr val="595959"/>
                </a:solidFill>
                <a:latin typeface="News Gothic MT"/>
              </a:rPr>
              <a:t>Click to edit Master text styl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</a:pPr>
            <a:r>
              <a:rPr b="0" lang="en-CA" sz="2200" spc="-1" strike="noStrike">
                <a:solidFill>
                  <a:srgbClr val="595959"/>
                </a:solidFill>
                <a:latin typeface="News Gothic MT"/>
              </a:rPr>
              <a:t>Second level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lnSpc>
                <a:spcPct val="100000"/>
              </a:lnSpc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0" lang="en-CA" sz="2000" spc="-1" strike="noStrike">
                <a:solidFill>
                  <a:srgbClr val="595959"/>
                </a:solidFill>
                <a:latin typeface="News Gothic MT"/>
              </a:rPr>
              <a:t>Third level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</a:pPr>
            <a:r>
              <a:rPr b="0" lang="en-CA" sz="1800" spc="-1" strike="noStrike">
                <a:solidFill>
                  <a:srgbClr val="595959"/>
                </a:solidFill>
                <a:latin typeface="News Gothic MT"/>
              </a:rPr>
              <a:t>Fourth level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lnSpc>
                <a:spcPct val="100000"/>
              </a:lnSpc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0" lang="en-CA" sz="1800" spc="-1" strike="noStrike">
                <a:solidFill>
                  <a:srgbClr val="595959"/>
                </a:solidFill>
                <a:latin typeface="News Gothic MT"/>
              </a:rPr>
              <a:t>Fifth level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9680" y="6275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600" y="6275520"/>
            <a:ext cx="4840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8040" y="6275520"/>
            <a:ext cx="990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125E3A-FD9F-4289-B17E-6533820CAC73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23000" y="1523880"/>
            <a:ext cx="6497640" cy="172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4600" spc="-1" strike="noStrike">
                <a:solidFill>
                  <a:schemeClr val="accent1"/>
                </a:solidFill>
                <a:latin typeface="News Gothic MT"/>
              </a:rPr>
              <a:t>Design Skills: Use Cases</a:t>
            </a:r>
            <a:endParaRPr b="0" lang="en-US" sz="4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23000" y="3299040"/>
            <a:ext cx="6497640" cy="9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8b8b8b"/>
                </a:solidFill>
                <a:latin typeface="News Gothic MT"/>
              </a:rPr>
              <a:t>TA: Shreya Raw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chemeClr val="accent1"/>
                </a:solidFill>
                <a:latin typeface="News Gothic MT"/>
              </a:rPr>
              <a:t>Last Class</a:t>
            </a:r>
            <a:endParaRPr b="0" lang="en-US" sz="4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8042040" cy="43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952520" cy="51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chemeClr val="accent1"/>
                </a:solidFill>
                <a:latin typeface="News Gothic MT"/>
              </a:rPr>
              <a:t>Types of Actors</a:t>
            </a:r>
            <a:endParaRPr b="0" lang="en-US" sz="4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8042040" cy="43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re are 3 types of actor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ole (User): A person in the business environment. NOTE: Not a specific person. A Role that a person would take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ystem: An external system which uses the system: Eg. accounting system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evice: An external device which interfaces with the system: Eg. Handheld scanner or Server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chemeClr val="accent1"/>
                </a:solidFill>
                <a:latin typeface="News Gothic MT"/>
              </a:rPr>
              <a:t>Use Case:</a:t>
            </a:r>
            <a:endParaRPr b="0" lang="en-US" sz="4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8042040" cy="43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var Jacobson defines a "Use Case" as "a sequence of transactions performed by the system which yields a measurable result of value for a particular actor”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Use Cases describe "what" the system doe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lnSpc>
                <a:spcPct val="100000"/>
              </a:lnSpc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Use cases represent an external view of the system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lnSpc>
                <a:spcPct val="100000"/>
              </a:lnSpc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A complete set of Use Cases describe the scope of the system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chemeClr val="accent1"/>
                </a:solidFill>
                <a:latin typeface="News Gothic MT"/>
              </a:rPr>
              <a:t>Writing and Identifying a Use Case</a:t>
            </a:r>
            <a:endParaRPr b="0" lang="en-US" sz="4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8042040" cy="43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 Use-Case describes what the system DO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Does not describe what the system "must" do, "should" do or "could" do.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dentify the goals of each actor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What do the actors require from the system?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The actor arrives, interacts with the system, then leaves.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eview requirement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dentify tasks which the system must perform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chemeClr val="accent1"/>
                </a:solidFill>
                <a:latin typeface="News Gothic MT"/>
              </a:rPr>
              <a:t>Headings in Use Case</a:t>
            </a:r>
            <a:endParaRPr b="0" lang="en-US" sz="4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8042040" cy="43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358920" indent="-35892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* Name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(Name of the Use Case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58920" indent="-35892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* Description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(Describes the functionality of the use case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58920" indent="-35892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* Primary Actors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(Actors which are directly involved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58920" indent="-35892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Secondary Actors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(Actors which are not directly involved but can access/affect the Use Case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58920" indent="-35892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Preconditions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(Conditions which must be fulfilled before that Use Case can do its functionality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58920" indent="-35892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* Main Flow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(Step by Step description of the main flow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58920" indent="-35892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Postconditions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(Conditions which must be fulfilled after that Use Case has done its functionality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58920" indent="-35892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Alternative Flows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(Possible alternative options for the same use-case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Breeze">
  <a:themeElements>
    <a:clrScheme name="Breeze">
      <a:dk1>
        <a:srgbClr val="000000"/>
      </a:dk1>
      <a:lt1>
        <a:srgbClr val="ffffff"/>
      </a:lt1>
      <a:dk2>
        <a:srgbClr val="09213b"/>
      </a:dk2>
      <a:lt2>
        <a:srgbClr val="d5edf4"/>
      </a:lt2>
      <a:accent1>
        <a:srgbClr val="2c7c9f"/>
      </a:accent1>
      <a:accent2>
        <a:srgbClr val="244a58"/>
      </a:accent2>
      <a:accent3>
        <a:srgbClr val="e2751d"/>
      </a:accent3>
      <a:accent4>
        <a:srgbClr val="ffb400"/>
      </a:accent4>
      <a:accent5>
        <a:srgbClr val="7eb606"/>
      </a:accent5>
      <a:accent6>
        <a:srgbClr val="c00000"/>
      </a:accent6>
      <a:hlink>
        <a:srgbClr val="7030a0"/>
      </a:hlink>
      <a:folHlink>
        <a:srgbClr val="00b0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Breeze">
  <a:themeElements>
    <a:clrScheme name="Breeze">
      <a:dk1>
        <a:srgbClr val="000000"/>
      </a:dk1>
      <a:lt1>
        <a:srgbClr val="ffffff"/>
      </a:lt1>
      <a:dk2>
        <a:srgbClr val="09213b"/>
      </a:dk2>
      <a:lt2>
        <a:srgbClr val="d5edf4"/>
      </a:lt2>
      <a:accent1>
        <a:srgbClr val="2c7c9f"/>
      </a:accent1>
      <a:accent2>
        <a:srgbClr val="244a58"/>
      </a:accent2>
      <a:accent3>
        <a:srgbClr val="e2751d"/>
      </a:accent3>
      <a:accent4>
        <a:srgbClr val="ffb400"/>
      </a:accent4>
      <a:accent5>
        <a:srgbClr val="7eb606"/>
      </a:accent5>
      <a:accent6>
        <a:srgbClr val="c00000"/>
      </a:accent6>
      <a:hlink>
        <a:srgbClr val="7030a0"/>
      </a:hlink>
      <a:folHlink>
        <a:srgbClr val="00b0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Breeze.thmx</Template>
  <TotalTime>29</TotalTime>
  <Application>LibreOffice/7.4.7.2$Linux_X86_64 LibreOffice_project/40$Build-2</Application>
  <AppVersion>15.0000</AppVersion>
  <Words>322</Words>
  <Paragraphs>31</Paragraphs>
  <Company>University of Calgar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15:58:12Z</dcterms:created>
  <dc:creator>Shreya Rawal</dc:creator>
  <dc:description/>
  <dc:language>en-US</dc:language>
  <cp:lastModifiedBy>Shreya Rawal</cp:lastModifiedBy>
  <dcterms:modified xsi:type="dcterms:W3CDTF">2009-04-01T16:27:16Z</dcterms:modified>
  <cp:revision>7</cp:revision>
  <dc:subject/>
  <dc:title>Design Skills: Use C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6</vt:r8>
  </property>
</Properties>
</file>